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E586-78C2-42B8-A675-ED2FBBE15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F598-9930-40D0-8105-CF7222042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8374A-1888-4915-8B83-37D79DDA0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6035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870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EF2A7-14D8-407F-AF8D-792C42349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D844-A641-4125-ACAD-109862D20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640A-2728-4CB5-B34E-2E8180E5B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DD7B-3DD2-4A52-928D-EE08D4FBB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B2BD-A0EA-4304-9712-7E1F837140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44424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8AA0-974B-4294-9E8F-1FB276C1F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D537D-7134-4E32-AB99-2AD32A4AC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870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F473-CB8F-4150-B4CB-41E9A291B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6035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870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86BB-D47B-4868-8D00-BE122298A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44424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Light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6035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38664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1" marL="773280" indent="-38628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2" marL="115992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3" marL="1546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4" marL="1933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5" marL="1933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  <a:p>
            <a:pPr lvl="6" marL="1933560" indent="-386640">
              <a:spcBef>
                <a:spcPts val="4201"/>
              </a:spcBef>
              <a:buClr>
                <a:srgbClr val="000000"/>
              </a:buClr>
              <a:buSzPct val="75000"/>
              <a:buFont typeface="Helvetica Light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Light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10080" y="9252000"/>
            <a:ext cx="369720" cy="38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s-ES" sz="1800" spc="-1" strike="noStrike">
                <a:solidFill>
                  <a:srgbClr val="000000"/>
                </a:solidFill>
                <a:latin typeface="Helvetica Light"/>
              </a:defRPr>
            </a:lvl1pPr>
          </a:lstStyle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3D0903-2C34-4D5A-91DD-7B76C9ABDC37}" type="slidenum">
              <a:rPr b="0" lang="es-ES" sz="1800" spc="-1" strike="noStrike">
                <a:solidFill>
                  <a:srgbClr val="000000"/>
                </a:solidFill>
                <a:latin typeface="Helvetica Ligh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5737320" y="1894680"/>
            <a:ext cx="1528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800" spc="-1" strike="noStrike">
                <a:solidFill>
                  <a:srgbClr val="232323"/>
                </a:solidFill>
                <a:latin typeface="Helvetica Light"/>
              </a:rPr>
              <a:t>(aquí tu logo)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0" name="Picture 2" descr="pasted-image.png"/>
          <p:cNvPicPr/>
          <p:nvPr/>
        </p:nvPicPr>
        <p:blipFill>
          <a:blip r:embed="rId1"/>
          <a:stretch/>
        </p:blipFill>
        <p:spPr>
          <a:xfrm>
            <a:off x="4567320" y="4186080"/>
            <a:ext cx="3868560" cy="642960"/>
          </a:xfrm>
          <a:prstGeom prst="rect">
            <a:avLst/>
          </a:prstGeom>
          <a:ln w="0">
            <a:noFill/>
          </a:ln>
        </p:spPr>
      </p:pic>
      <p:sp>
        <p:nvSpPr>
          <p:cNvPr id="41" name="Line 3"/>
          <p:cNvSpPr/>
          <p:nvPr/>
        </p:nvSpPr>
        <p:spPr>
          <a:xfrm>
            <a:off x="6502320" y="2500200"/>
            <a:ext cx="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341960" y="5131440"/>
            <a:ext cx="431928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232323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144880" y="7948080"/>
            <a:ext cx="87138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Esta es una plantilla para facilitar el trabajo de generación de un mapa de contenidos. En ningún caso incluye datos reales de InboundCycle o de su buyer persona.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749600" y="954720"/>
            <a:ext cx="10669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EJEMPLO DE </a:t>
            </a:r>
            <a:r>
              <a:rPr b="1" lang="es-ES_tradnl" sz="1800" spc="-1" strike="noStrike">
                <a:solidFill>
                  <a:srgbClr val="232323"/>
                </a:solidFill>
                <a:latin typeface="Arial"/>
                <a:ea typeface="Arial"/>
              </a:rPr>
              <a:t>UNA EMPRESA DE SOFTWARE DE GAMIFICACIÓN PARA RECURSOS HUMANOS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7613640" y="543600"/>
            <a:ext cx="4829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e94e1c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46" name="Picture 3" descr="inboundcycle_lg.png"/>
          <p:cNvPicPr/>
          <p:nvPr/>
        </p:nvPicPr>
        <p:blipFill>
          <a:blip r:embed="rId1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30360" y="1852560"/>
          <a:ext cx="11685600" cy="5983200"/>
        </p:xfrm>
        <a:graphic>
          <a:graphicData uri="http://schemas.openxmlformats.org/drawingml/2006/table">
            <a:tbl>
              <a:tblPr/>
              <a:tblGrid>
                <a:gridCol w="2921040"/>
                <a:gridCol w="2922480"/>
                <a:gridCol w="2921040"/>
                <a:gridCol w="2921040"/>
              </a:tblGrid>
              <a:tr h="74952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grid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ES DEL PROCESO DE COM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IG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S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YER PERSONA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ómo mejorar el ambiente lab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ómo gamificar una 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Ventajas de la herramienta X para medir el desempeño de empl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ta Torn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Directora de RRH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Fomentar el esp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íritu de equipo en la empr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Qu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é es el método de gestión 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Demo de 1 mes de la herramienta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ne un equipo de trabajo desmoti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10 consejos para mantener felices a los empl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Formas de medir el desempeño de los empl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Diagn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Helvetica Light"/>
                        </a:rPr>
                        <a:t>óstico gratuito de la adecuación de tu empresa al método 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“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s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é cómo mejorar el espíritu de equipo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Rectangle 114"/>
          <p:cNvSpPr/>
          <p:nvPr/>
        </p:nvSpPr>
        <p:spPr>
          <a:xfrm>
            <a:off x="4716360" y="8943840"/>
            <a:ext cx="357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(esto es un ejemplo, en las siguientes diapositivas encontrar</a:t>
            </a:r>
            <a:r>
              <a:rPr b="0" lang="es-ES_tradnl" sz="1200" spc="-1" strike="noStrike">
                <a:solidFill>
                  <a:srgbClr val="232323"/>
                </a:solidFill>
                <a:latin typeface="Helvetica Light"/>
              </a:rPr>
              <a:t>ás la plantilla en blanco</a:t>
            </a: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0" name="Line 115"/>
          <p:cNvSpPr/>
          <p:nvPr/>
        </p:nvSpPr>
        <p:spPr>
          <a:xfrm flipV="1">
            <a:off x="6502320" y="829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1389240" y="1924200"/>
            <a:ext cx="130644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n 2" descr=""/>
          <p:cNvPicPr/>
          <p:nvPr/>
        </p:nvPicPr>
        <p:blipFill>
          <a:blip r:embed="rId1"/>
          <a:stretch/>
        </p:blipFill>
        <p:spPr>
          <a:xfrm>
            <a:off x="1389240" y="1924200"/>
            <a:ext cx="1334880" cy="13935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6105600" y="954720"/>
            <a:ext cx="6313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PLANTILLA EN BLANCO 1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7613640" y="543600"/>
            <a:ext cx="4829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e94e1c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55" name="Picture 3" descr="inboundcycle_lg.png"/>
          <p:cNvPicPr/>
          <p:nvPr/>
        </p:nvPicPr>
        <p:blipFill>
          <a:blip r:embed="rId2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30360" y="1852560"/>
          <a:ext cx="11685600" cy="5983200"/>
        </p:xfrm>
        <a:graphic>
          <a:graphicData uri="http://schemas.openxmlformats.org/drawingml/2006/table">
            <a:tbl>
              <a:tblPr/>
              <a:tblGrid>
                <a:gridCol w="2921040"/>
                <a:gridCol w="2922480"/>
                <a:gridCol w="2921040"/>
                <a:gridCol w="2921040"/>
              </a:tblGrid>
              <a:tr h="74952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grid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ES DEL PROCESO DE COM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IG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S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YER PERSONA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ar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Probl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Frase que le de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Rectangle 114"/>
          <p:cNvSpPr/>
          <p:nvPr/>
        </p:nvSpPr>
        <p:spPr>
          <a:xfrm>
            <a:off x="4716360" y="8852760"/>
            <a:ext cx="3571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(el texto remarcado en azul es el que debes sustituir con los datos de tu proyecto en concreto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59" name="Line 115"/>
          <p:cNvSpPr/>
          <p:nvPr/>
        </p:nvSpPr>
        <p:spPr>
          <a:xfrm flipV="1">
            <a:off x="6502320" y="829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n 2" descr=""/>
          <p:cNvPicPr/>
          <p:nvPr/>
        </p:nvPicPr>
        <p:blipFill>
          <a:blip r:embed="rId1"/>
          <a:stretch/>
        </p:blipFill>
        <p:spPr>
          <a:xfrm>
            <a:off x="1389240" y="1924200"/>
            <a:ext cx="1334880" cy="1393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6105600" y="954720"/>
            <a:ext cx="6313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PLANTILLA EN BLANCO 2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613640" y="543600"/>
            <a:ext cx="4829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e94e1c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63" name="Picture 3" descr="inboundcycle_lg.png"/>
          <p:cNvPicPr/>
          <p:nvPr/>
        </p:nvPicPr>
        <p:blipFill>
          <a:blip r:embed="rId2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30360" y="1852560"/>
          <a:ext cx="11685600" cy="5983200"/>
        </p:xfrm>
        <a:graphic>
          <a:graphicData uri="http://schemas.openxmlformats.org/drawingml/2006/table">
            <a:tbl>
              <a:tblPr/>
              <a:tblGrid>
                <a:gridCol w="2921040"/>
                <a:gridCol w="2922480"/>
                <a:gridCol w="2921040"/>
                <a:gridCol w="2921040"/>
              </a:tblGrid>
              <a:tr h="74952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grid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ES DEL PROCESO DE COM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IG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S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YER PERSONA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ar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Probl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Frase que le de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14"/>
          <p:cNvSpPr/>
          <p:nvPr/>
        </p:nvSpPr>
        <p:spPr>
          <a:xfrm>
            <a:off x="4716360" y="8852760"/>
            <a:ext cx="3571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(el texto remarcado en azul es el que debes sustituir con los datos de tu proyecto en concreto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67" name="Line 115"/>
          <p:cNvSpPr/>
          <p:nvPr/>
        </p:nvSpPr>
        <p:spPr>
          <a:xfrm flipV="1">
            <a:off x="6502320" y="829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1389240" y="1924200"/>
            <a:ext cx="1334880" cy="13935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"/>
          <p:cNvSpPr/>
          <p:nvPr/>
        </p:nvSpPr>
        <p:spPr>
          <a:xfrm>
            <a:off x="6105600" y="954720"/>
            <a:ext cx="6313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PLANTILLA EN BLANCO 3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613640" y="543600"/>
            <a:ext cx="48290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e94e1c"/>
                </a:solidFill>
                <a:latin typeface="Arial"/>
                <a:ea typeface="Arial"/>
              </a:rPr>
              <a:t>MAPA DE CONTENID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1" name="Picture 3" descr="inboundcycle_lg.png"/>
          <p:cNvPicPr/>
          <p:nvPr/>
        </p:nvPicPr>
        <p:blipFill>
          <a:blip r:embed="rId2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30360" y="1852560"/>
          <a:ext cx="11685600" cy="5983200"/>
        </p:xfrm>
        <a:graphic>
          <a:graphicData uri="http://schemas.openxmlformats.org/drawingml/2006/table">
            <a:tbl>
              <a:tblPr/>
              <a:tblGrid>
                <a:gridCol w="2921040"/>
                <a:gridCol w="2922480"/>
                <a:gridCol w="2921040"/>
                <a:gridCol w="2921040"/>
              </a:tblGrid>
              <a:tr h="749520"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gridSpan="3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SES DEL PROCESO DE COMP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606060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SIDER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IGAC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CISI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YER PERSONA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c823b"/>
                    </a:solidFill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ar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E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Proble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row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70c0"/>
                          </a:solidFill>
                          <a:latin typeface="Helvetica Light"/>
                        </a:rPr>
                        <a:t>Contenid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606060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Frase que le de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ctr" marL="50760" marR="50760">
                    <a:lnL w="5760">
                      <a:solidFill>
                        <a:srgbClr val="606060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Helvetica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4" name="Rectangle 114"/>
          <p:cNvSpPr/>
          <p:nvPr/>
        </p:nvSpPr>
        <p:spPr>
          <a:xfrm>
            <a:off x="4716360" y="8852760"/>
            <a:ext cx="3571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200" spc="-1" strike="noStrike">
                <a:solidFill>
                  <a:srgbClr val="232323"/>
                </a:solidFill>
                <a:latin typeface="Helvetica Light"/>
              </a:rPr>
              <a:t>(el texto remarcado en azul es el que debes sustituir con los datos de tu proyecto en concreto)</a:t>
            </a:r>
            <a:endParaRPr b="0" lang="en-US" sz="1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75" name="Line 115"/>
          <p:cNvSpPr/>
          <p:nvPr/>
        </p:nvSpPr>
        <p:spPr>
          <a:xfrm flipV="1">
            <a:off x="6502320" y="82944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Helvetica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inboundcycle_lg.png"/>
          <p:cNvPicPr/>
          <p:nvPr/>
        </p:nvPicPr>
        <p:blipFill>
          <a:blip r:embed="rId1"/>
          <a:stretch/>
        </p:blipFill>
        <p:spPr>
          <a:xfrm>
            <a:off x="11783880" y="8574120"/>
            <a:ext cx="787680" cy="834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9657720" y="9113400"/>
            <a:ext cx="1998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400" spc="-1" strike="noStrike">
                <a:solidFill>
                  <a:srgbClr val="232323"/>
                </a:solidFill>
                <a:latin typeface="Arial"/>
                <a:ea typeface="Arial"/>
              </a:rPr>
              <a:t>INBOUNDCYCLE.COM</a:t>
            </a:r>
            <a:endParaRPr b="0" lang="en-US" sz="14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78" name="Imagen 1" descr=""/>
          <p:cNvPicPr/>
          <p:nvPr/>
        </p:nvPicPr>
        <p:blipFill>
          <a:blip r:embed="rId2"/>
          <a:stretch/>
        </p:blipFill>
        <p:spPr>
          <a:xfrm>
            <a:off x="309600" y="3508200"/>
            <a:ext cx="3848040" cy="3784680"/>
          </a:xfrm>
          <a:prstGeom prst="rect">
            <a:avLst/>
          </a:prstGeom>
          <a:ln w="0">
            <a:noFill/>
          </a:ln>
        </p:spPr>
      </p:pic>
      <p:pic>
        <p:nvPicPr>
          <p:cNvPr id="79" name="Imagen 2" descr=""/>
          <p:cNvPicPr/>
          <p:nvPr/>
        </p:nvPicPr>
        <p:blipFill>
          <a:blip r:embed="rId3"/>
          <a:stretch/>
        </p:blipFill>
        <p:spPr>
          <a:xfrm>
            <a:off x="-6480" y="0"/>
            <a:ext cx="13011120" cy="25034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4702320" y="3494520"/>
            <a:ext cx="608472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Definir a tus diversos modelos de clientes, o </a:t>
            </a:r>
            <a:r>
              <a:rPr b="1" lang="es-ES" sz="1600" spc="-1" strike="noStrike">
                <a:solidFill>
                  <a:srgbClr val="232323"/>
                </a:solidFill>
                <a:latin typeface="Helvetica Light"/>
              </a:rPr>
              <a:t>crear tus buyer personas</a:t>
            </a: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, puede resultar algo complejo si no posees los conocimientos ni la práctica necesaria.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Para facilitarte esta labor, hemos elaborado una </a:t>
            </a:r>
            <a:r>
              <a:rPr b="1" lang="es-ES" sz="1600" spc="-1" strike="noStrike">
                <a:solidFill>
                  <a:srgbClr val="232323"/>
                </a:solidFill>
                <a:latin typeface="Helvetica Light"/>
              </a:rPr>
              <a:t>plantilla que te ayudará a detallar cada una de las características de tus clientes ideales</a:t>
            </a:r>
            <a:r>
              <a:rPr b="0" lang="es-ES" sz="1600" spc="-1" strike="noStrike">
                <a:solidFill>
                  <a:srgbClr val="232323"/>
                </a:solidFill>
                <a:latin typeface="Helvetica Light"/>
              </a:rPr>
              <a:t>, con el fin de conocerlos a fondo y poder elaborar campañas de inbound marketing muchos más efectivas y personalizadas.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  <a:p>
            <a:pPr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1600" spc="-1" strike="noStrike">
                <a:solidFill>
                  <a:srgbClr val="232323"/>
                </a:solidFill>
                <a:latin typeface="Helvetica Light"/>
              </a:rPr>
              <a:t>Desc</a:t>
            </a:r>
            <a:r>
              <a:rPr b="1" lang="es-ES_tradnl" sz="1600" spc="-1" strike="noStrike">
                <a:solidFill>
                  <a:srgbClr val="232323"/>
                </a:solidFill>
                <a:latin typeface="Helvetica Light"/>
              </a:rPr>
              <a:t>árgala en: http://hubs.ly/H04jvCQ0 </a:t>
            </a:r>
            <a:endParaRPr b="0" lang="en-US" sz="16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1" name="Imagen 4" descr=""/>
          <p:cNvPicPr/>
          <p:nvPr/>
        </p:nvPicPr>
        <p:blipFill>
          <a:blip r:embed="rId4"/>
          <a:stretch/>
        </p:blipFill>
        <p:spPr>
          <a:xfrm>
            <a:off x="4702320" y="6492960"/>
            <a:ext cx="3797280" cy="79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4449600" y="2934360"/>
            <a:ext cx="4104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3200" spc="-1" strike="noStrike">
                <a:solidFill>
                  <a:srgbClr val="e94e1c"/>
                </a:solidFill>
                <a:latin typeface="Arial"/>
                <a:ea typeface="Arial"/>
              </a:rPr>
              <a:t>¡MUCHA SUERTE!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259240" y="6900120"/>
            <a:ext cx="2484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1800" spc="-1" strike="noStrike">
                <a:solidFill>
                  <a:srgbClr val="232323"/>
                </a:solidFill>
                <a:latin typeface="Arial"/>
                <a:ea typeface="Arial"/>
              </a:rPr>
              <a:t>www.inboundcycle.com</a:t>
            </a:r>
            <a:endParaRPr b="0" lang="en-US" sz="18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449600" y="3759840"/>
            <a:ext cx="4104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3200" spc="-1" strike="noStrike">
                <a:solidFill>
                  <a:srgbClr val="e94e1c"/>
                </a:solidFill>
                <a:latin typeface="Arial"/>
                <a:ea typeface="Arial"/>
              </a:rPr>
              <a:t>:)</a:t>
            </a:r>
            <a:endParaRPr b="0" lang="en-US" sz="3200" spc="-1" strike="noStrike">
              <a:solidFill>
                <a:srgbClr val="000000"/>
              </a:solidFill>
              <a:latin typeface="Helvetica Light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4341960" y="5214600"/>
            <a:ext cx="431928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s-ES" sz="2200" spc="-1" strike="noStrike">
                <a:solidFill>
                  <a:srgbClr val="232323"/>
                </a:solidFill>
                <a:latin typeface="Arial"/>
                <a:ea typeface="Arial"/>
              </a:rPr>
              <a:t>PERO, SI NECESITAS AYUDA…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s-ES" sz="2200" spc="-1" strike="noStrike">
                <a:solidFill>
                  <a:srgbClr val="232323"/>
                </a:solidFill>
                <a:latin typeface="Arial"/>
                <a:ea typeface="Arial"/>
              </a:rPr>
              <a:t>CONTACTA CON NOSOTROS</a:t>
            </a:r>
            <a:endParaRPr b="0" lang="en-US" sz="2200" spc="-1" strike="noStrike">
              <a:solidFill>
                <a:srgbClr val="000000"/>
              </a:solidFill>
              <a:latin typeface="Helvetica Light"/>
            </a:endParaRPr>
          </a:p>
        </p:txBody>
      </p:sp>
      <p:pic>
        <p:nvPicPr>
          <p:cNvPr id="86" name="Picture 5" descr="pasted-image.png"/>
          <p:cNvPicPr/>
          <p:nvPr/>
        </p:nvPicPr>
        <p:blipFill>
          <a:blip r:embed="rId1"/>
          <a:stretch/>
        </p:blipFill>
        <p:spPr>
          <a:xfrm>
            <a:off x="4743360" y="6315120"/>
            <a:ext cx="3517920" cy="58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3T16:08:00Z</dcterms:created>
  <dc:creator>Usuario de Microsoft Office</dc:creator>
  <dc:description/>
  <dc:language>en-US</dc:language>
  <cp:lastModifiedBy>Usuario de Microsoft Office</cp:lastModifiedBy>
  <dcterms:modified xsi:type="dcterms:W3CDTF">2016-09-13T16:08:36Z</dcterms:modified>
  <cp:revision>1</cp:revision>
  <dc:subject/>
  <dc:title>Presentación de PowerPoint</dc:title>
</cp:coreProperties>
</file>